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46E-DD5A-4F21-91C5-A8C5D350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477-C52C-42FC-BE80-596265B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B181A-D1EA-4325-80D4-9ED93D8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799FD-7162-4347-80A6-A8CD9C3A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8936-C0A6-4B87-BE5E-289D6C63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05CDB-1A71-47B4-8C45-D06F01D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BA7C1-D4AA-41F2-BB37-FBD089C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C3366-2896-4736-9F32-EACD65F1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08AD-0D86-49C9-B6AE-558338EA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56E14-1535-4E14-8481-6D6A415B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5B370-ECF4-439C-A039-45E0D82E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720-0249-42EC-A5F4-79F18ADE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6B6-76A1-45A8-B59C-81D50E40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748-31A3-4D11-8B3D-C5476695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1CEA-5C4B-405A-B4DE-23640E6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E92-E379-4C6E-9D5F-2A0AE9F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9B1-CDE0-4774-937A-FC5187D3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9FE-7771-42F3-A977-862B7ED9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6C7E-65E9-426A-8711-88337B6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24C-60BA-4DB7-97CA-1671F72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334-BA6C-4E9F-9A20-4E2915D6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AE0C-CCD6-425A-A254-AEEA4453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7FF5-66CA-49F1-8BBF-704F3EC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8A52-B856-419F-9389-0E8E6F3A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C1B-F55C-489D-8DCA-E7CA5CED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1E70-DC63-4C48-AF62-1813933A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5031-7B31-4B78-BBD5-7B4EC18A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BBB2-466F-4D02-98A1-D82DBFD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8F89-CF99-4FFC-BEA2-4D447609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DADC-B0F9-4332-88FB-052720C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F7EC-AD94-4C1F-99F8-1FDF357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908-B2D1-4426-837F-0E03A58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8F6F-BBFE-4D7C-985F-CEDDE29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8CE8-062A-4241-A60C-2515D58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640E-50E8-455C-A6B0-084AB5BB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A5C9-E3B3-4F9C-BFF6-49821F3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987C-3094-48A1-8741-2E0FB668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54B5-46FC-4876-8172-293807B9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7230-3F46-4D9F-9233-255DED23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DC6B-16D0-487D-BA90-DBED64BA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FD85-64D4-4E96-A5F7-6EC2212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6177-D159-44EA-B650-F7A9B4D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BD3-45A0-40D8-96FC-E2C89BA9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67CE-A8BB-463C-90BE-66505E16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735D-69F0-4A3B-A635-2945A8D6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8016-87A6-463C-8962-7E8DDE7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1419-7DCE-4C38-B2D9-A70514F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0F59-BDEA-4DD1-90ED-93DE27A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D1E7-DD1D-4C62-8998-4CE77DD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0F67-590D-438D-A2F1-F7A39043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38AF-1617-4E0D-B9C4-29F25AF5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58D9-14BF-4E64-964D-AF23BD7D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02A4-47E3-4FF5-ADF7-A8B8B1D9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685-538A-4A88-828E-A3D803E2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988F-B821-4F0B-9608-2D5C0EF2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7356-FFB9-44D6-AB70-D56BF32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26BF-7D64-4C98-A13A-7188CA6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1B6E-338F-46EA-8EBF-E0C4A87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B2704-5DC6-49D8-B61B-9F42E77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BBA61-9801-468F-BCDB-16ABEAAA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2DD0-034B-4711-823E-9471561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6B35-2841-44AC-8C1C-9F063A6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1D59-2C3B-4868-948E-88C59EC8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7AB2-E102-4A86-90CB-047375AD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FBB-C44E-460A-A61A-F5B1396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39E7-97EF-44D4-95DF-40DE3559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BB0A-81B2-493B-A227-C349273B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D79E-EE8D-48F9-821C-F479B303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BA137-5A79-4751-8B3F-0F816EFB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4063-05B5-4834-BCA6-061ECC8A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C61A-81E7-4136-907A-216B8221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5EE1-9E32-4DAF-97D7-343A65C4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F977E-F206-4256-ACDB-E4AFB31F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4334-B231-49E1-9F3D-B2D30DF2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902A-C738-44FD-837F-AE91673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506-6926-4754-BA3B-E9AA817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223B-79C4-43BA-B7F9-8EB6A22E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3ACB-19C0-4611-B76E-9DF54484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44BC-ED41-4F8F-891F-8D439BD9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ADAD0-2618-4C31-9073-7228D74E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B643E-CFA3-4B16-B757-C9FC456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58A8A-EF0C-465E-9648-4C3E939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20732-4BD3-4B0D-A077-2A8414A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6E951-42BA-4E96-8D9E-8FA2DCF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9FF74-0DE3-41DC-8A78-43E0EC5C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ABC02-14B5-45C2-8724-B98B588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4A6-5F7A-4B36-87CD-3A6ADDB7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DFE05-38FF-4C79-BDFE-58C232B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C0F3F-C57B-4D52-84B1-DDA39094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35531-5CC8-4594-8215-99E7AF96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9E369-DC5E-4378-B68A-3F72F55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AA43C-52BD-44FE-9B51-4ACC6A54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93F3B-B55F-4A4D-BF1E-172DE576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35CAA-EC87-4E62-9CCF-C9D656F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7A0A-B1E1-4CCE-A9D0-0FFC05F2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2B20-E9FB-43A7-91B9-A648C19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1CF1-5F61-4854-8C64-5E45631A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0EB-4C1C-47DD-9322-57911A9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E0FE4-33E8-496D-ABCF-CD751AAF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E577-BF11-443A-8FCB-0ECF246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ACA7-524C-432B-A797-22C2CAE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D7D9F-1173-469C-A9E8-159EF95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DC85-D069-4D1D-B3A2-A01DCB7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0918B-FC05-4021-A2EE-77B1CA6D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39066-5C8B-48A1-AB67-A917A58D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234BB-88AC-4DD7-9F87-868D8578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378C-E254-412F-81A5-212AB51D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32A72-F003-49B6-A5A9-A58CF15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A673-1A45-4F91-8EB7-B5552319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97B-7DDC-440D-9D41-CE2955876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AD6D-6658-4E44-9B87-F740C3C062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68320" y="-83520"/>
            <a:ext cx="2433960" cy="2255760"/>
            <a:chOff x="7168320" y="-83520"/>
            <a:chExt cx="2433960" cy="2255760"/>
          </a:xfrm>
        </p:grpSpPr>
        <p:grpSp>
          <p:nvGrpSpPr>
            <p:cNvPr id="121" name=""/>
            <p:cNvGrpSpPr/>
            <p:nvPr/>
          </p:nvGrpSpPr>
          <p:grpSpPr>
            <a:xfrm>
              <a:off x="7168320" y="-83520"/>
              <a:ext cx="2433960" cy="2255760"/>
              <a:chOff x="7168320" y="-83520"/>
              <a:chExt cx="2433960" cy="2255760"/>
            </a:xfrm>
          </p:grpSpPr>
          <p:sp>
            <p:nvSpPr>
              <p:cNvPr id="12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168320" y="-83520"/>
                <a:ext cx="2433960" cy="2255760"/>
                <a:chOff x="7168320" y="-83520"/>
                <a:chExt cx="2433960" cy="2255760"/>
              </a:xfrm>
            </p:grpSpPr>
            <p:sp>
              <p:nvSpPr>
                <p:cNvPr id="124" name="未知"/>
                <p:cNvSpPr/>
                <p:nvPr/>
              </p:nvSpPr>
              <p:spPr>
                <a:xfrm rot="18427200">
                  <a:off x="7867800" y="113400"/>
                  <a:ext cx="2451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18427200">
                  <a:off x="7997400" y="51876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18427200">
                  <a:off x="7694280" y="281520"/>
                  <a:ext cx="80892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rot="18427200">
                  <a:off x="7777800" y="-21960"/>
                  <a:ext cx="1214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8427200">
                  <a:off x="8394120" y="1421640"/>
                  <a:ext cx="2703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 rot="18427200">
                  <a:off x="8323560" y="127584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 rot="18427200">
                  <a:off x="7897680" y="321840"/>
                  <a:ext cx="28980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 rot="18427200">
                  <a:off x="7839360" y="21240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CE25-B634-4F3C-BD84-AEDF725545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5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9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7786440" y="4316040"/>
            <a:ext cx="987840" cy="1164600"/>
            <a:chOff x="7786440" y="4316040"/>
            <a:chExt cx="987840" cy="1164600"/>
          </a:xfrm>
        </p:grpSpPr>
        <p:sp>
          <p:nvSpPr>
            <p:cNvPr id="185" name="未知"/>
            <p:cNvSpPr/>
            <p:nvPr/>
          </p:nvSpPr>
          <p:spPr>
            <a:xfrm rot="7320000">
              <a:off x="7778880" y="46465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 rot="7320000">
              <a:off x="7922160" y="460944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86440" y="4316040"/>
              <a:ext cx="987840" cy="1164600"/>
              <a:chOff x="7786440" y="4316040"/>
              <a:chExt cx="987840" cy="1164600"/>
            </a:xfrm>
          </p:grpSpPr>
          <p:sp>
            <p:nvSpPr>
              <p:cNvPr id="189" name="未知"/>
              <p:cNvSpPr/>
              <p:nvPr/>
            </p:nvSpPr>
            <p:spPr>
              <a:xfrm rot="7320000">
                <a:off x="7917480" y="504864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rot="7320000">
                <a:off x="7750800" y="4646520"/>
                <a:ext cx="1058760" cy="5032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7320000">
                <a:off x="8044920" y="4754880"/>
                <a:ext cx="749160" cy="2847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7320000">
                <a:off x="8512200" y="4545720"/>
                <a:ext cx="100080" cy="1908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rot="7320000">
                <a:off x="8146800" y="4745880"/>
                <a:ext cx="306720" cy="1684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62D5-AE08-40AA-95C1-D36676AE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2425-1410-4557-AC38-DE112F84D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E75C-5778-43ED-85B6-BE5874914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B3F-6457-43FE-A6AC-45D363E2353E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2C0A-A84A-4381-B09C-34C13AD7424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QMHST_r1_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2806560" y="62064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.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幅名扬中外的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"/>
          <p:cNvSpPr/>
          <p:nvPr/>
        </p:nvSpPr>
        <p:spPr>
          <a:xfrm>
            <a:off x="53964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北宋时候，有位画家叫张择端。他画了一幅名扬中外的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明上河图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这幅画长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2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厘米，高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.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厘米，画的是北宋都城汴梁热闹的场面。这幅画已经有八百多年的历史了，现在还完整地保存在北京故宫博物院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050920" y="1197000"/>
            <a:ext cx="172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6659640" y="1197000"/>
            <a:ext cx="1368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6732720" y="2133720"/>
            <a:ext cx="1368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 flipV="1">
            <a:off x="684360" y="3068640"/>
            <a:ext cx="158400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3059280" y="1989000"/>
            <a:ext cx="28728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3492360" y="1989000"/>
            <a:ext cx="28764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3924360" y="1989000"/>
            <a:ext cx="28728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4356000" y="1989000"/>
            <a:ext cx="28728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7"/>
          <p:cNvSpPr/>
          <p:nvPr/>
        </p:nvSpPr>
        <p:spPr>
          <a:xfrm>
            <a:off x="4427640" y="2997360"/>
            <a:ext cx="3744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8"/>
          <p:cNvSpPr/>
          <p:nvPr/>
        </p:nvSpPr>
        <p:spPr>
          <a:xfrm>
            <a:off x="684360" y="4005360"/>
            <a:ext cx="79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9"/>
          <p:cNvSpPr/>
          <p:nvPr/>
        </p:nvSpPr>
        <p:spPr>
          <a:xfrm>
            <a:off x="3419640" y="4005360"/>
            <a:ext cx="4537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611280" y="4941720"/>
            <a:ext cx="576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1"/>
          <p:cNvSpPr/>
          <p:nvPr/>
        </p:nvSpPr>
        <p:spPr>
          <a:xfrm>
            <a:off x="4356000" y="4941720"/>
            <a:ext cx="1656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2"/>
          <p:cNvSpPr/>
          <p:nvPr/>
        </p:nvSpPr>
        <p:spPr>
          <a:xfrm>
            <a:off x="298764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3"/>
          <p:cNvSpPr/>
          <p:nvPr/>
        </p:nvSpPr>
        <p:spPr>
          <a:xfrm>
            <a:off x="3492360" y="5734080"/>
            <a:ext cx="28764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4"/>
          <p:cNvSpPr/>
          <p:nvPr/>
        </p:nvSpPr>
        <p:spPr>
          <a:xfrm>
            <a:off x="392436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5"/>
          <p:cNvSpPr/>
          <p:nvPr/>
        </p:nvSpPr>
        <p:spPr>
          <a:xfrm>
            <a:off x="435600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6"/>
          <p:cNvSpPr/>
          <p:nvPr/>
        </p:nvSpPr>
        <p:spPr>
          <a:xfrm>
            <a:off x="485928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4360" y="476280"/>
            <a:ext cx="792000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自学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请同学们认真朗读课文，结合画面思考：《清明上河图》都画了些什么？它们有什么特点？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分钟后比谁学得最认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48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5"/>
          <p:cNvSpPr/>
          <p:nvPr/>
        </p:nvSpPr>
        <p:spPr>
          <a:xfrm>
            <a:off x="539640" y="2637000"/>
            <a:ext cx="7920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张择端画这幅画的时候，下了很大功夫。光是画上的人物，就有五百多个：有从乡下来的农民，有撑船的船工，有做各种买卖的生意人，有留着长胡子的道士，有走江湖的医生，有摆小摊的摊贩，有官吏和读书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三百六十行，哪一行的人都画在上面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7164360" y="119700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>
            <a:off x="684360" y="1989000"/>
            <a:ext cx="1800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68360" y="83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名扬中外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7524720" y="1989000"/>
            <a:ext cx="43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684360" y="2708280"/>
            <a:ext cx="1366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>
            <a:off x="5364000" y="2637000"/>
            <a:ext cx="21780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4"/>
          <p:cNvSpPr/>
          <p:nvPr/>
        </p:nvSpPr>
        <p:spPr>
          <a:xfrm>
            <a:off x="5796000" y="2637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5"/>
          <p:cNvSpPr/>
          <p:nvPr/>
        </p:nvSpPr>
        <p:spPr>
          <a:xfrm>
            <a:off x="125892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6"/>
          <p:cNvSpPr/>
          <p:nvPr/>
        </p:nvSpPr>
        <p:spPr>
          <a:xfrm>
            <a:off x="169236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47"/>
          <p:cNvSpPr/>
          <p:nvPr/>
        </p:nvSpPr>
        <p:spPr>
          <a:xfrm>
            <a:off x="579600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48"/>
          <p:cNvSpPr/>
          <p:nvPr/>
        </p:nvSpPr>
        <p:spPr>
          <a:xfrm>
            <a:off x="622764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9"/>
          <p:cNvSpPr/>
          <p:nvPr/>
        </p:nvSpPr>
        <p:spPr>
          <a:xfrm>
            <a:off x="665964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0"/>
          <p:cNvSpPr/>
          <p:nvPr/>
        </p:nvSpPr>
        <p:spPr>
          <a:xfrm>
            <a:off x="3564000" y="414972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1"/>
          <p:cNvSpPr/>
          <p:nvPr/>
        </p:nvSpPr>
        <p:spPr>
          <a:xfrm>
            <a:off x="3924360" y="414972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2"/>
          <p:cNvSpPr/>
          <p:nvPr/>
        </p:nvSpPr>
        <p:spPr>
          <a:xfrm>
            <a:off x="7164360" y="414972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3"/>
          <p:cNvSpPr/>
          <p:nvPr/>
        </p:nvSpPr>
        <p:spPr>
          <a:xfrm>
            <a:off x="7556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70"/>
          <p:cNvSpPr/>
          <p:nvPr/>
        </p:nvSpPr>
        <p:spPr>
          <a:xfrm>
            <a:off x="39956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1"/>
          <p:cNvSpPr/>
          <p:nvPr/>
        </p:nvSpPr>
        <p:spPr>
          <a:xfrm>
            <a:off x="44258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2"/>
          <p:cNvSpPr/>
          <p:nvPr/>
        </p:nvSpPr>
        <p:spPr>
          <a:xfrm>
            <a:off x="579600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73"/>
          <p:cNvSpPr/>
          <p:nvPr/>
        </p:nvSpPr>
        <p:spPr>
          <a:xfrm>
            <a:off x="62276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4"/>
          <p:cNvSpPr/>
          <p:nvPr/>
        </p:nvSpPr>
        <p:spPr>
          <a:xfrm>
            <a:off x="723600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5"/>
          <p:cNvSpPr/>
          <p:nvPr/>
        </p:nvSpPr>
        <p:spPr>
          <a:xfrm>
            <a:off x="759636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6"/>
          <p:cNvSpPr/>
          <p:nvPr/>
        </p:nvSpPr>
        <p:spPr>
          <a:xfrm>
            <a:off x="755640" y="566100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7"/>
          <p:cNvSpPr/>
          <p:nvPr/>
        </p:nvSpPr>
        <p:spPr>
          <a:xfrm>
            <a:off x="2556000" y="5877000"/>
            <a:ext cx="63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句式：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63456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renaode shiqu jiedao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qingmingshanghetu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395280" y="2421000"/>
            <a:ext cx="842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画上的街市可热闹了。街上有挂着各种招牌的店铺、作坊、酒楼、茶馆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走在街上的，是来来往往、形态各异的人：有的骑着马，有的挑着担，有的赶着毛驴，有的推着独轮车，有的悠闲地在街上溜达。画面上的这些人，有的不到一寸，有的甚至只有黄豆那么大。别看画上的人小，每个人在干什么，都能看得清清楚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1692360" y="1341360"/>
            <a:ext cx="403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79280" y="83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中心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2843280" y="2060640"/>
            <a:ext cx="4824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421164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471636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2"/>
          <p:cNvSpPr/>
          <p:nvPr/>
        </p:nvSpPr>
        <p:spPr>
          <a:xfrm>
            <a:off x="521964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3"/>
          <p:cNvSpPr/>
          <p:nvPr/>
        </p:nvSpPr>
        <p:spPr>
          <a:xfrm>
            <a:off x="6084720" y="2565360"/>
            <a:ext cx="21780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4"/>
          <p:cNvSpPr/>
          <p:nvPr/>
        </p:nvSpPr>
        <p:spPr>
          <a:xfrm>
            <a:off x="658800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702000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>
            <a:off x="745164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>
            <a:off x="1403280" y="335772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4284720" y="335772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6948360" y="335772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468360" y="4005360"/>
            <a:ext cx="57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>
            <a:off x="2411280" y="4005360"/>
            <a:ext cx="2016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3"/>
          <p:cNvSpPr/>
          <p:nvPr/>
        </p:nvSpPr>
        <p:spPr>
          <a:xfrm>
            <a:off x="468360" y="4653000"/>
            <a:ext cx="790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0"/>
          <p:cNvSpPr/>
          <p:nvPr/>
        </p:nvSpPr>
        <p:spPr>
          <a:xfrm>
            <a:off x="395280" y="59500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画中人特点：小却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500720" y="6165720"/>
            <a:ext cx="1079280" cy="216000"/>
          </a:xfrm>
          <a:prstGeom prst="rightArrow">
            <a:avLst>
              <a:gd name="adj1" fmla="val 50000"/>
              <a:gd name="adj2" fmla="val 1249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508720" y="59500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画家技艺高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1547640" y="189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句式：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5"/>
          <p:cNvSpPr/>
          <p:nvPr/>
        </p:nvSpPr>
        <p:spPr>
          <a:xfrm>
            <a:off x="378000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18235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7"/>
          <p:cNvSpPr/>
          <p:nvPr/>
        </p:nvSpPr>
        <p:spPr>
          <a:xfrm>
            <a:off x="1143000" y="60008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热闹的市区街道（尾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102_10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内容占位符 3" descr="200651793754-02.gif"/>
          <p:cNvPicPr/>
          <p:nvPr/>
        </p:nvPicPr>
        <p:blipFill>
          <a:blip r:embed="rId1"/>
          <a:stretch/>
        </p:blipFill>
        <p:spPr>
          <a:xfrm>
            <a:off x="0" y="3463920"/>
            <a:ext cx="6786720" cy="33940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7201080" y="404640"/>
            <a:ext cx="21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汴京郊野的春光（首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5" descr="chunguang.jpg"/>
          <p:cNvPicPr/>
          <p:nvPr/>
        </p:nvPicPr>
        <p:blipFill>
          <a:blip r:embed="rId2"/>
          <a:stretch/>
        </p:blipFill>
        <p:spPr>
          <a:xfrm>
            <a:off x="0" y="0"/>
            <a:ext cx="6858000" cy="3429000"/>
          </a:xfrm>
          <a:prstGeom prst="rect">
            <a:avLst/>
          </a:prstGeom>
          <a:ln w="0">
            <a:noFill/>
          </a:ln>
        </p:spPr>
      </p:pic>
      <p:sp>
        <p:nvSpPr>
          <p:cNvPr id="563" name="TextBox 6"/>
          <p:cNvSpPr/>
          <p:nvPr/>
        </p:nvSpPr>
        <p:spPr>
          <a:xfrm>
            <a:off x="7072200" y="4071960"/>
            <a:ext cx="178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繁忙的汴河码头（中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张择端像"/>
          <p:cNvPicPr/>
          <p:nvPr/>
        </p:nvPicPr>
        <p:blipFill>
          <a:blip r:embed="rId1"/>
          <a:stretch/>
        </p:blipFill>
        <p:spPr>
          <a:xfrm>
            <a:off x="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4267080" y="380880"/>
            <a:ext cx="4572000" cy="1595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作者张择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北宋画家，字正道，东武（今山东诸城）人。早年游学汴京（今河南开封），后习绘画。宋徽宗时供职翰林图画院。专工界画宫室，尤擅绘舟车、市肆、桥梁、街道、城郭。存世作品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清明上河图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卷，描绘当年汴京近郊在清明时节社会各阶层的生活景象，真实生动，是一件具有重要历史价值的优秀风俗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button1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8680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102_106_4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6360" y="909720"/>
            <a:ext cx="90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《清明上河图》中还有什么画面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55520" y="81000"/>
            <a:ext cx="88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最有意思的是桥北头的情景：一个人骑着马，正往桥下走。 因为人太多，眼看就要碰上对面来的一乘轿子。就在这个紧急时刻，那个骑马人一下子拽住了马笼头，这才没碰上那乘轿子。不过，这么一来，倒把马右边的两头小毛驴吓得又踢又跳。  站在桥栏杆边欣赏风景的人，被小毛驴惊扰了，连忙回过头来赶小毛驴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你看，张择端画的画，是多么传神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987280" y="1052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850920" y="33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532720" y="333360"/>
            <a:ext cx="14472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24360" y="333360"/>
            <a:ext cx="14472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940000" y="1052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8748360" y="1052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979280" y="177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956360" y="177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850920" y="177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842920" y="249228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724360" y="2492280"/>
            <a:ext cx="14472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457520" y="249228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2050920" y="3176640"/>
            <a:ext cx="14472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156000" y="393372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92360" y="6021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050920" y="3933720"/>
            <a:ext cx="14472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850920" y="393372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92720" y="4005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84360" y="4581360"/>
            <a:ext cx="14472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042560" y="537372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284360" y="465300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027640" y="465300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850920" y="5300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651280" y="537372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87280" y="6021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8000" y="76500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齐读第五自然段，思考：第五自然段在文中起了什么作用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明上河图</a:t>
            </a: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我们看到了八百多年以前的古都风貌，看到了当时普通百姓的生活情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5651640" y="3213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>
            <a:off x="4602240" y="3429000"/>
            <a:ext cx="100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5003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指北宋都城汴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68436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作用：总结全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12720" y="476280"/>
            <a:ext cx="813600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自学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请同学们认真朗读课文，思考：为什么说《清明上河图》是一幅名扬中外的画？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分钟后比谁得回答最精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60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1_181915_1"/>
          <p:cNvPicPr/>
          <p:nvPr/>
        </p:nvPicPr>
        <p:blipFill>
          <a:blip r:embed="rId1"/>
          <a:stretch/>
        </p:blipFill>
        <p:spPr>
          <a:xfrm>
            <a:off x="3168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明上河图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仅有艺术价值，而且有很高的历史价值，使我们看到了八百多年以前的古都风貌，看到了当时普通百姓的生活情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5651640" y="3213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画名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作者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年代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大小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画面内容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历史价值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959120" y="1916280"/>
            <a:ext cx="26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《清明上河图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39220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50240" y="2637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张择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6560" y="24922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张择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24000" y="292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北宋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03920" y="364500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长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52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，高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24.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6320" y="87300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资料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017680" y="4311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人物众多、街市热闹和画面传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94600" y="5084640"/>
            <a:ext cx="4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《清明上河图》使我们看到了八百年前的古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风貌及当时普通百姓的生活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414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76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20*  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一幅名扬中外的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人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3459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街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132000" y="2565360"/>
            <a:ext cx="26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多  形态各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00360" y="3429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热闹   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3392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传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274320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2" action="ppaction://hlinksldjump"/>
          </p:cNvPr>
          <p:cNvSpPr/>
          <p:nvPr/>
        </p:nvSpPr>
        <p:spPr>
          <a:xfrm>
            <a:off x="6248520" y="299736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古都风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生活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8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《 清明上河图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我国最大的古代风俗画。北宋张择端作。描绘北宋京城汴梁及汴河两岸的风光，是一幅写实性很强的作品。所绘景物都具有典型代表性，时代气息浓厚，是了解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中国城市生活极重要的形象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8744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图以不断移动视点的办法来摄取景物，大到原野、河流、城廓，细到舟车上的钉铆、摊贩上的小商品、市招上的文字，和谐的组成统一整体，段落分明，结构严谨。画中人物多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人，但衣着、神情、活动都各有所异，极富情趣。还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匹牲畜；车轿二十多辆，大小船只二十多艘，是我国绘画史上的无价之宝。它曾经五次进入宫廷，四次被盗出宫，演绎出无数的传奇故事，现藏故宫博物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89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能正确、流利、有感情地朗读课文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对照画面，了解课文描写了画面的哪些内容，了解古画《清明上河图》的历史价值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440000" y="914400"/>
            <a:ext cx="7380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同学们认真朗读课文，遇到不认识的字利用工具书或同桌解决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钟后比赛朗读，比谁课文读得正确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、流利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1280" y="2060640"/>
            <a:ext cx="7489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biàn         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cún    ch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ē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g       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ā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f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汴 梁    保 存     撑 船    摊 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ì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     lǘ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    y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ō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u          zhu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吏    毛 驴     悠 闲    拽 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ǎ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o            t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态各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1756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32000" y="1052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9080" y="32464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41756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84200" y="2209680"/>
            <a:ext cx="68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2133720"/>
            <a:ext cx="8280360" cy="46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ō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作坊）                     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ū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溜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溜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zuò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作业）                  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liù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一溜烟）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ché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shèng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一乘轿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340000" y="2924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87640" y="5373720"/>
            <a:ext cx="554040" cy="625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2924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00360" y="3789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45086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40360" y="1019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正确读出下列多音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08000" y="1109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自由读第一自然段，思考：这一段写了什么内容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20:36Z</dcterms:created>
  <dc:creator>微软用户</dc:creator>
  <dc:description/>
  <cp:keywords/>
  <dc:language>en-US</dc:language>
  <cp:lastModifiedBy>微软用户</cp:lastModifiedBy>
  <dcterms:modified xsi:type="dcterms:W3CDTF">2014-11-05T02:12:09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